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76092"/>
                </a:solidFill>
                <a:latin typeface="Calibri"/>
              </a:rPr>
              <a:t>Click to move the slide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402F6-31B5-4EC0-9EAC-14661CE5DAD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F5261-C844-4433-A4F2-9652EB4960E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SO 26000, 2010, E, s.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7414A-91FD-405E-8F44-5D101A5C95B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SR w dydaktyce, czyli jak uczyć studentów społecznej odpowiedzialnośc. Ewa Mazur-Wierzbicka. Str. 16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33D31-AEB2-40BF-A3E2-4356B129687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SR w dydaktyce, czyli jak uczyć studentów społecznej odpowiedzialnośc. Ewa Mazur-Wierzbicka. Str. 206-2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53440-E9A9-4D48-B806-EEE7031322A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ttp://blog.ucmsgroup.pl/hm-odpowiedzialnosc-spoleczna-globalnej-marki-odziezowej-studium-przypadk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45D24-06B9-40C7-AE4A-6D0D558895F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14B8-270D-4695-B7B1-22CDB5E43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26F0-DEC3-4C94-913B-66FB67A20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CDBC-F3D1-411F-9409-110701313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B849-7DBE-4CCB-BB70-FC7E0F916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42EF-209B-41E4-B3FC-297B0E539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3D84-2E73-43A3-BE6D-7DFFC0C5B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E1E2-B8FD-4C6B-A6B1-4DFD2FC42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2ACF-A991-46A3-AF0F-078BFFF38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0571-B648-4E6E-97B0-8186B13C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729B-69AB-44DE-B92E-F02494F7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A6FA-8EE1-4661-9B25-9BE0ABF3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FEDE-6F89-4474-B2C0-A754BDF5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036B0-0095-42B6-85EC-D5A500A2DD1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sfg\Dropbox\hotel stars logo.jpg"/>
          <p:cNvPicPr/>
          <p:nvPr/>
        </p:nvPicPr>
        <p:blipFill>
          <a:blip r:embed="rId1"/>
          <a:stretch/>
        </p:blipFill>
        <p:spPr>
          <a:xfrm>
            <a:off x="1187280" y="907920"/>
            <a:ext cx="6356520" cy="41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376092"/>
                </a:solidFill>
                <a:latin typeface="Calibri"/>
              </a:rPr>
              <a:t>Społeczna Odpowiedzialność Biznesu</a:t>
            </a:r>
            <a:br>
              <a:rPr sz="5400"/>
            </a:br>
            <a:br>
              <a:rPr sz="5400"/>
            </a:br>
            <a:r>
              <a:rPr b="1" lang="pl-PL" sz="2400" spc="-1" strike="noStrike">
                <a:solidFill>
                  <a:srgbClr val="376092"/>
                </a:solidFill>
                <a:latin typeface="Calibri"/>
              </a:rPr>
              <a:t>CSR- Corporate Social Responsibility</a:t>
            </a:r>
            <a:br>
              <a:rPr sz="5400"/>
            </a:br>
            <a:endParaRPr b="1" lang="en-US" sz="2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Studium przypadk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376092"/>
                </a:solidFill>
                <a:latin typeface="Calibri"/>
              </a:rPr>
              <a:t>Czym jest Społeczna Odpowiedzialność Biznesu?</a:t>
            </a:r>
            <a:endParaRPr b="1" lang="en-US" sz="5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8000" y="2060280"/>
            <a:ext cx="807228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Calibri"/>
              </a:rPr>
              <a:t>Odpowiedzialność za oddziaływania decyzji podjętych w ramach organizacji i działań będących konsekwencją tych decyzji na społeczeństwo i środowisko naturaln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Calibri"/>
              </a:rPr>
              <a:t>Styl zarządzania przedsiębiorstwem polegający na integrowaniu kwestii społecznych, środowiskowych, etycznych i dotyczących praw człowieka z działaniami biznesowymi i strategią, we współpracy z interesariuszami (Komisja Europejska, 2011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684360" y="5877000"/>
            <a:ext cx="54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  <a:ea typeface="Arial"/>
              </a:rPr>
              <a:t>Żródło: ISO 26000, 2010, E, s.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376092"/>
                </a:solidFill>
                <a:latin typeface="Calibri"/>
              </a:rPr>
              <a:t>Obszary Społecznej Odpowiedzialności Biznesu</a:t>
            </a:r>
            <a:endParaRPr b="1" lang="en-US" sz="5400" spc="-1" strike="noStrike">
              <a:solidFill>
                <a:srgbClr val="376092"/>
              </a:solidFill>
              <a:latin typeface="Calibri"/>
            </a:endParaRPr>
          </a:p>
        </p:txBody>
      </p:sp>
      <p:pic>
        <p:nvPicPr>
          <p:cNvPr id="55" name="Diagram 3" descr=""/>
          <p:cNvPicPr/>
          <p:nvPr/>
        </p:nvPicPr>
        <p:blipFill>
          <a:blip r:embed="rId1"/>
          <a:stretch/>
        </p:blipFill>
        <p:spPr>
          <a:xfrm>
            <a:off x="469800" y="1682640"/>
            <a:ext cx="755820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376092"/>
                </a:solidFill>
                <a:latin typeface="Calibri"/>
              </a:rPr>
              <a:t>Polkomtel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Calibri"/>
              </a:rPr>
              <a:t>Stworzenie Zintegrowanego Systemu Ratownictwa (wraz z GOPR, WOPR i TOPR)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Calibri"/>
              </a:rPr>
              <a:t>utworzenie telefonu zaufania dla dzieci i młodzieży 116 111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Calibri"/>
              </a:rPr>
              <a:t>zbiórki i recykling zużytych telefonów komórkowych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Calibri"/>
              </a:rPr>
              <a:t>akcja społeczno-edukacyjna „Bystrzaki Plusa”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Calibri"/>
              </a:rPr>
              <a:t>SMS charytatywny - brak pobierania prowizji od SMSów na cele charytatywne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http://portalmedialny.pl/media/images/original/md5/f/0/f0fc26c97bf2ce3fe726291d08998e84/PLUS_logo.jpg"/>
          <p:cNvPicPr/>
          <p:nvPr/>
        </p:nvPicPr>
        <p:blipFill>
          <a:blip r:embed="rId1"/>
          <a:stretch/>
        </p:blipFill>
        <p:spPr>
          <a:xfrm>
            <a:off x="7236000" y="549360"/>
            <a:ext cx="118260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28400" y="1214280"/>
            <a:ext cx="8258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Skanska to wiodąca światowa firma zajmująca się działalnością budowlaną i dewelopersk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Tworzenie ekologicznych, „zielonych budynków” (międzynarodowy certyfikat Green Building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Strategia „5 zer” dotyczący standardów prac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zero strat na projektach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zero wypadków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zero zagrożeń środowiskowych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zero naruszeń etyki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zero usterek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Tydzień bezpieczeństwa Skanska -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romocja bezpieczeństwa na budowach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Stanowisko menedżera ds. BHP – promocja kultury opartej na bezpieczeństwi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romocja zasad w Kodeksie Postępowania oraz szkolenia w sferze etyki biznes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https://encrypted-tbn0.gstatic.com/images?q=tbn:ANd9GcQDhEBtsd1ZEfEF6Mo8vdhyi-P2WRu5vgf8_N-AnOh_JqXL47XPzgssFIlC"/>
          <p:cNvPicPr/>
          <p:nvPr/>
        </p:nvPicPr>
        <p:blipFill>
          <a:blip r:embed="rId1"/>
          <a:srcRect l="8602" t="24784" r="9006" b="24639"/>
          <a:stretch/>
        </p:blipFill>
        <p:spPr>
          <a:xfrm>
            <a:off x="3375000" y="347760"/>
            <a:ext cx="3013200" cy="6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78920" y="1422000"/>
            <a:ext cx="43722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Kodeks postępowani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całkowity zakaz pracy dzieci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ypłacanie wynagrodzeń co najmniej na poziomie płacy minimalnej obowiązującej w danym kraju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zestrzeganie standardów ekologicznych wyznaczanych przez lokalne praw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http://blog.ucmsgroup.pl/wp-content/uploads/2013/08/grafika_HM.png"/>
          <p:cNvPicPr/>
          <p:nvPr/>
        </p:nvPicPr>
        <p:blipFill>
          <a:blip r:embed="rId1"/>
          <a:stretch/>
        </p:blipFill>
        <p:spPr>
          <a:xfrm>
            <a:off x="4551480" y="1989000"/>
            <a:ext cx="4467240" cy="32972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63" name="Picture 4" descr="http://nyocommercialobserver.files.wordpress.com/2013/08/hm.gif"/>
          <p:cNvPicPr/>
          <p:nvPr/>
        </p:nvPicPr>
        <p:blipFill>
          <a:blip r:embed="rId2"/>
          <a:stretch/>
        </p:blipFill>
        <p:spPr>
          <a:xfrm>
            <a:off x="3832200" y="260280"/>
            <a:ext cx="1436760" cy="14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8T15:53:37Z</dcterms:created>
  <dc:creator>sfg</dc:creator>
  <dc:description/>
  <dc:language>en-US</dc:language>
  <cp:lastModifiedBy>User</cp:lastModifiedBy>
  <dcterms:modified xsi:type="dcterms:W3CDTF">2014-04-12T21:28:06Z</dcterms:modified>
  <cp:revision>16</cp:revision>
  <dc:subject/>
  <dc:title>Slajd 1</dc:title>
</cp:coreProperties>
</file>